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2.wmf" ContentType="image/x-wmf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  <p:custShowLst>
    <p:custShow name="post-quiz 1-1" id="0">
      <p:sldLst>
        <p:sld r:id="rId5"/>
        <p:sld r:id="rId7"/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B5C-5D94-41ED-9D9E-E476C12F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E98-8B5B-4EEF-8E0A-3387516A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C20-D50A-41FD-8AD2-139A581E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19F6-4643-4083-A7CF-9E91D706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D65-2D3D-476C-8002-FC1D0C2A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BC9-BBAA-4048-A5BC-16FBD760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FE3-C008-412B-8D64-9E868228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4F0B-806F-4EBF-AB3E-132495E8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92F-3090-41D4-9E57-36085F94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0304-FA0A-4452-ACC2-C5B4A885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C047-4B49-4FA9-8A45-BD19BFAA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8337-6CDD-4D36-A2BB-7D84E9CE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1CD9-989E-4E20-B93C-92F572403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0"/>
            <a:ext cx="83822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105520" cy="2597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33720" y="4114800"/>
            <a:ext cx="4819680" cy="2505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304920"/>
            <a:ext cx="746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e13405"/>
                </a:solidFill>
                <a:latin typeface="Arial"/>
              </a:rPr>
              <a:t>  State whether each of the following is a function.   If not, explain why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226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33210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(-2, 3), (4, 1), (3, -2), (2, -1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3399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(2, 3), (4, 1), (3, -2), (2, -1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7288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e13405"/>
                </a:solidFill>
                <a:latin typeface="Arial"/>
              </a:rPr>
              <a:t> Determine whether each relation represents a function.  If it is a function, state the domain and 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63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3244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533520" y="304920"/>
            <a:ext cx="8076960" cy="1137600"/>
            <a:chOff x="533520" y="304920"/>
            <a:chExt cx="8076960" cy="1137600"/>
          </a:xfrm>
        </p:grpSpPr>
        <p:sp>
          <p:nvSpPr>
            <p:cNvPr id="53" name=""/>
            <p:cNvSpPr/>
            <p:nvPr/>
          </p:nvSpPr>
          <p:spPr>
            <a:xfrm>
              <a:off x="533520" y="495360"/>
              <a:ext cx="8076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termine if the equation                         define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s a function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4" name=""/>
            <p:cNvGraphicFramePr/>
            <p:nvPr/>
          </p:nvGraphicFramePr>
          <p:xfrm>
            <a:off x="4386240" y="304920"/>
            <a:ext cx="1905120" cy="95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86240" y="304920"/>
                      <a:ext cx="190512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6" name=""/>
          <p:cNvGrpSpPr/>
          <p:nvPr/>
        </p:nvGrpSpPr>
        <p:grpSpPr>
          <a:xfrm>
            <a:off x="609480" y="1863720"/>
            <a:ext cx="8077320" cy="956880"/>
            <a:chOff x="609480" y="1863720"/>
            <a:chExt cx="8077320" cy="956880"/>
          </a:xfrm>
        </p:grpSpPr>
        <p:sp>
          <p:nvSpPr>
            <p:cNvPr id="57" name=""/>
            <p:cNvSpPr/>
            <p:nvPr/>
          </p:nvSpPr>
          <p:spPr>
            <a:xfrm>
              <a:off x="609480" y="1873440"/>
              <a:ext cx="807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termine if the equation                      define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s a function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8" name=""/>
            <p:cNvGraphicFramePr/>
            <p:nvPr/>
          </p:nvGraphicFramePr>
          <p:xfrm>
            <a:off x="4484520" y="1863720"/>
            <a:ext cx="1689120" cy="552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84520" y="1863720"/>
                      <a:ext cx="168912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" name=""/>
          <p:cNvSpPr/>
          <p:nvPr/>
        </p:nvSpPr>
        <p:spPr>
          <a:xfrm>
            <a:off x="0" y="425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28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9480" y="3170160"/>
          <a:ext cx="8153640" cy="5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170160"/>
                    <a:ext cx="815364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38080" y="3989520"/>
                <a:ext cx="3962520" cy="21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d</m:t>
                          </m:r>
                          <m:r>
                            <m:t xml:space="preserve">)</m:t>
                          </m:r>
                        </m:e>
                        <m:e>
                          <m:f>
                            <m:num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h</m:t>
                              </m:r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h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3119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4800600" cy="733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4648320" cy="907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5105520" cy="585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304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6.  Find the indicated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62120" y="3505320"/>
            <a:ext cx="7467480" cy="4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219320" y="4005360"/>
          <a:ext cx="2971800" cy="83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005360"/>
                    <a:ext cx="29718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219320" y="5141880"/>
          <a:ext cx="2350800" cy="53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5141880"/>
                    <a:ext cx="23508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219320" y="5910120"/>
          <a:ext cx="2566800" cy="567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5910120"/>
                    <a:ext cx="256680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52280" y="3395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944640" y="380880"/>
          <a:ext cx="703080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380880"/>
                    <a:ext cx="70308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04920" y="1914480"/>
            <a:ext cx="2438280" cy="641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04920" y="2752560"/>
            <a:ext cx="2438280" cy="594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04920" y="3514680"/>
            <a:ext cx="2286000" cy="584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04920" y="4276800"/>
            <a:ext cx="1904760" cy="1027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880" y="390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3405"/>
                </a:solidFill>
                <a:latin typeface="Arial"/>
              </a:rPr>
              <a:t>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2:05:03Z</dcterms:created>
  <dc:creator>Harry S. Mills</dc:creator>
  <dc:description/>
  <dc:language>en-US</dc:language>
  <cp:lastModifiedBy>Harry S. Mills</cp:lastModifiedBy>
  <dcterms:modified xsi:type="dcterms:W3CDTF">2007-12-29T04:13:02Z</dcterms:modified>
  <cp:revision>6</cp:revision>
  <dc:subject/>
  <dc:title>Slide 1</dc:title>
</cp:coreProperties>
</file>